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54B-B5AE-4A9E-971D-364B29DC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1B3-93A4-427D-8E09-0E5D02B4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AC6B0-53BA-4F0B-82CF-03EE6B4F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E4E24-1B52-4306-BBF0-E4FAAFBF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E1347-A486-4CA6-A9B9-6A42D1D0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54814-B8E6-419A-AEF3-8AD12143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62C8D-4494-4F0F-85AE-1A7E39D8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BA06-0C43-47E1-8729-3F865D0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00E9F-2C6D-41A6-9DB7-DFDDDEDD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AC49F-3F1C-49AB-8F08-A5BA6A75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B520A-0E82-47FA-87A1-7E559131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1E49C-C1A1-4B9E-8D5F-46858786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4D2-2C5D-48E2-A516-E7A9C067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65BF1-C7AD-42ED-BCAB-FD3DCB0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60D60-8861-4F8F-9954-51F486EA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58AF3-D6D3-4B3A-91DB-4D126C9D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78D31-8807-4693-93D1-49B3F95D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71858-64A5-4E29-8399-5E3B1B10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B2A14-EF18-4256-BCB5-68D9678C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08700-26D4-4377-BC99-D15F3402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1AC4F-5753-4294-AB5E-45F4A7DB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4B229-D981-4605-A8C3-679B701C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B1959-97E8-4C68-B401-9D752FF4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E8B-DC08-4F72-AD2F-EC087010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80CBA-7C3F-474A-8776-5D200AE3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19AAD-9CA9-4BFB-9E09-BC3DD415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184BD-CC3B-4573-95A1-1E8DB282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B98DB-9D1F-4586-9D19-CBDD1744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ABCCA-B86B-4F4F-8EBA-AC3BF502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5BA1B-7AC7-4E29-8ECA-2C5E56E0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242E6-7BC4-4F06-BBB3-6E18C02B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70603-7C76-42DD-8524-0C2A50F2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FA241-D5D3-44F9-A44E-ABD49143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6769B-3986-40CE-9248-3FADA1C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BF56-7B48-43B8-A38B-ADD107A0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C872A-8F21-4943-926B-56AD4AF8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645F6-0BEB-43F2-9DF8-219F9392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73243-BF15-41B3-9C6D-A420C1BD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72400-EF08-4342-871B-75C61870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997C8-BDF3-486F-9395-125B6CD8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0D486-9DC6-4903-AB08-84F0F250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1EA1B-EEE5-4F0F-9BCE-F69ECA8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9E238-4EBB-4FDF-A0BB-3E27AA35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2B81F-0CB3-4679-B267-637BA0A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16EF8-F219-4663-AB71-39F802A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AC1C-A42A-47E2-8565-5EFA1C91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24407-408D-468B-9F3E-B19217E6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BA8A9-36BB-4497-B700-EA13F8BF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A3010-1D8B-450B-9B64-1B0915BF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83448-B6D1-46F0-A132-261F2E84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D87CC-E308-4557-8B2E-3AC6142F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DD4AA-730F-4EC3-8FA2-58AB7737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2E267-4E69-4BF7-92DC-7DBE3E21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E4EDA-077D-4079-8776-DBB3373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C6203-7BB9-4461-9CBC-A8614010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F790D-E018-45B6-A4D1-848DFC96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7CC2-C673-4B58-BE5B-BB455287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EE267-8963-4BB3-8B73-68674A92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896B2-35B1-4D75-961E-E39EBB83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8B0E9-496C-4518-A635-B02D4C3A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F36C1-9E6A-41C2-85D4-86BBFCBC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E46AE-EB61-4CFD-BA2E-014D8906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3A383-D3DB-4367-8DFA-AEDAB2E4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0AA35-AE5B-47AA-A99B-3A0FA1A9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1A0EF-8082-4783-96C1-B482E5A0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3BBE1-E287-4DA6-A59D-4D015295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9D8D3-86B4-40CA-97ED-9E7DD77A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3D94-4B1F-4EA3-8E7B-71FABBD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D0D8C-6138-4DA3-ACD1-14665A95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7AFB8-E44B-4E5C-A60F-ED55B29C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7A6FC-0CB2-4E8C-AC0F-90B9539C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8FB2D-9ABA-43D8-B0AE-8E5286AC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BAEB8-0E6F-4C88-8F60-2928C5E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D6B40-77DC-47FD-AF61-56B6B4B1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1657A-E1C3-435C-96BC-CA50574C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9B87C-07F4-4CC7-994E-6C1EB223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3AFEF-ADB0-4D8F-BC5C-9A752181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3D9F-854B-4B1F-9D1C-B0B3EF8E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9395-F0D7-48E4-A69B-ED0B85CA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4ED3-81E9-458D-86F6-50D41E64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3DB-C178-4132-A0F2-3FF039E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211A-F0D5-47F0-8D09-ABDA676E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6B22-AC70-4C42-A055-82B1219D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C55-4A57-4C65-AF59-97C999E6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235D-21B1-4D88-A7D2-1FD3B1D8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E505-59C3-497B-903A-F66711FE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FD1FD-0873-4B51-8434-8DFD5A6A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45ABE-0DAA-4F24-815E-2D82C836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781B8-10CA-4CA3-9C1C-6912188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DF19C-197C-4A89-9D4B-BF7AA25E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EE9B9-502B-41A8-9C0F-13B2E9BE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BB0-E32E-4631-BC52-98CF65E7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F7BC7-31F7-413F-801F-22FBAF6B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695AF-8648-4FE8-BA65-99E1D384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DBA20-1811-4C31-AAC6-2F072FA4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3380F-10CF-4AB6-A49D-4EE8DA9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2AFF8-0E78-4DED-8808-A5F0AEE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24810-7E77-4570-A2EE-C00194D5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2E904-310A-4FE0-A908-49D987C9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BBCC-004E-4567-97E4-EE21DE45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7954-3EA2-43FB-839A-A7AA559B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F5EB-E5AE-440B-82D1-06D7D9FB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2FE-DE1E-4D60-AC56-1EF986FB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9BD0-1A2A-4041-B2F0-489ACB03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AAF9E-7639-4DF0-8A25-EE4F1429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EC90-4E96-42CF-88EF-35C1123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0D3DB-C5E0-40C6-9BE8-9E794BB0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E2365-0A77-4501-9269-0B0154D3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30DB-A3F5-4F7C-81AE-21AA3DB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04AD2-A2E1-4A1E-95D9-ADA3D976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E75B-7F53-4D5F-A0F3-A2885C16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2D9D4-AC27-4624-AA50-745B2E9C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5A9E8-B974-460C-AE48-77D1BC2E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25D-0BA9-4611-9050-E5C40D97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B9C36-78F4-4A5E-B505-74E2D97E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ED97D-1556-4BC2-B83E-3EC6B8E5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4BE5C-D919-487A-914F-A7AE6C76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9EF34-8815-4CC1-A7FE-816623A2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1DF7C-CBFD-430E-8B72-6187D1D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56BF-EF25-4B8D-95F2-8295307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51CC8-2896-4F55-96F0-D7CF85B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0517-6136-4E0F-B47B-4C428E17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6173-E5C7-4DD3-B9F9-921887EA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59011-8643-435B-B16A-66578575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6BC-86F9-442F-97B8-513A4F3A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7589-9234-4F9F-917F-04D7BD7B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8623-D519-41E6-980E-208E1F5F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601D2-5930-4643-950A-4A7890C5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413F-EB3E-412E-944D-842A57C7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9A42-BAF8-43A6-ADB7-D705073A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705F0-535F-4F80-9E32-0A510E36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5433-3B58-49A1-9D14-850325C0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EF78D-63E1-4963-875E-AF89BCFE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CB257-9A8A-4863-9688-9D5577D7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C309B-3E83-4A4E-8D66-B65DA9DA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F22-DC55-4EEE-AACF-AA30BDA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F225F-53E9-4EFF-BE22-CC63DA1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5C07B-3B4D-4DEF-8175-F5A97C03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E64F-AFDD-4157-87D7-E35FE58E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CCFA8-AAB1-46FA-9CBB-CFFEFE1E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AE377-ED5B-476E-88DE-2FDCBBA6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BC953-CE25-42C0-9D1E-7693BA97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C6BD7-19FB-4C69-B101-0A9ADBC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327F6-D0CC-417B-BD1F-46DD7123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DDE24-8592-4331-8B20-04AF0B53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3029B-E991-45AE-9CE3-D3BCD10B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8CC-91F4-40AA-B21F-9E2B0559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30666-E5E4-4487-9610-EB49DB7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15F8C-B272-46F4-9BC8-12383BF8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EE1CD-134D-40A2-8A86-A3368BC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D6468-2B7E-4835-B3EB-785D19BF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79179-02EB-40CA-871C-EC6FE76F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62449-1DA5-4632-8B9F-F7E98DF5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D8B98-B20C-4CCA-91C0-6C2B32F1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6DF0E-6E3D-47BB-9461-2E4BC6F7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E5436-0F49-44F7-80EC-11F298BA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AFA5-970F-4D0D-AC59-8FD711BE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0B1-4873-45B8-A831-52386919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575E-2E13-41AB-A2DA-8B34CD97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CDD10-F6FB-4A94-97B4-E218FB38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42D28-0CD9-4919-9B33-3D5E3B2A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E5D19-7CAD-4AF6-8A8F-5653534B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A8094-3E2F-4C52-ADF6-F536DEB6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89CA5-7D83-4AF9-B633-D048C991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1ACFE-0DA6-42E3-87AA-0EF88193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E788B-71A6-49D5-A707-3704EEF1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51FF0-DAB5-46AE-9D53-D1043015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C1526-329D-41D3-9BC0-46AF0DFF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1928-8127-419D-AB87-E22F2EA076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9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1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9D00-B6E6-4B25-AEAF-11EA7646F0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D11A-86D6-40E8-9A51-C22789F04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DC3A-D7A3-4539-B522-094404F0C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16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D84-E6FC-4A3B-AC74-67A10DF271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11" name="PlaceHolder 1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E49F-E7E9-41FE-81C6-8507F6C1F8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351F-E611-4A53-A494-254F813F9F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CFAB-ED90-4D60-A824-D409C656FA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A78-1C63-4585-B6BE-9CBE38144E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DA9B-4916-4580-B488-773D9240D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9382-0583-4648-A8B1-65A284951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374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85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4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6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7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8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4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5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6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8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1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5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8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22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423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4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5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9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0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1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0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472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4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485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492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7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9E91-C493-45B3-AD16-42D5C30688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539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8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50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87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88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9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0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1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2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3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4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5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6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7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8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9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36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637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9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9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650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657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C2DF-1E65-4294-9B08-0493FA6AE4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0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0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1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BA03-6A63-45AF-A41C-A39E5F0212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900000" y="2349360"/>
            <a:ext cx="763272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tributul adverbi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Ce este atributul adverbial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Este exprimat prin adverb sau locutiune adverbiala insotita sau neinsotita de prepoziti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tributul adverbial de lo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 locul unde se petrece o actiune sau exista o stare. Exempl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El se bucura de caldur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 afa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tributul adverbial de timp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rima timpul in care se savarseste o actiune sau exista o stare. Exempl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Asa erau ierni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de altadat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stepta sa vina timpu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de atunc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tributul adverbial de mod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est tip de adverb arata felul desfasurarii actiunii, al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xist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i stării sau al posedării îns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rii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mp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Er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i supara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 data trecu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2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servati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ibutul adverbial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ta intotdeauna dupa cuvantul determin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ste insotit de obicei de prepozit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u exceptia atributelor exprimate prin adverbe de mod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u se desparte prin virgula de substantivul determin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2438280" y="333000"/>
            <a:ext cx="6400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cest proiect a luat sfarsit iar eu v-a multumesc pentru timpul acorda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4:12:28Z</dcterms:created>
  <dc:creator>user</dc:creator>
  <dc:description/>
  <dc:language>en-US</dc:language>
  <cp:lastModifiedBy>user</cp:lastModifiedBy>
  <dcterms:modified xsi:type="dcterms:W3CDTF">2011-05-09T07:46:36Z</dcterms:modified>
  <cp:revision>4</cp:revision>
  <dc:subject/>
  <dc:title>Diapozitivul 1</dc:title>
</cp:coreProperties>
</file>